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88262-ADD4-486C-9BDE-A836FA277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04382-E6FA-4AF5-B623-A298618F6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150B-A32E-4F27-A908-14C67B189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BC228-E348-4349-A108-08C0805BD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17F3-5D16-4019-9CF3-EF9B3A07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AB37-D5F9-4463-897F-2219E339C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AEC5-6159-4653-A9EA-133C0505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12B7-EAAF-476F-8875-F0A9D7B24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6100F-84BE-4083-B191-8CAEDE14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1BFCB-688F-45B4-9614-F129EBE6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43F5-05CA-48FE-8817-2D6AFD4B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C6E9-129C-46A8-B374-68B731467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1ADE-C870-44EE-BABA-93E549477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nternet_forum" TargetMode="External"/><Relationship Id="rId2" Type="http://schemas.openxmlformats.org/officeDocument/2006/relationships/hyperlink" Target="http://en.wikipedia.org/wiki/Message_board" TargetMode="External"/><Relationship Id="rId3" Type="http://schemas.openxmlformats.org/officeDocument/2006/relationships/hyperlink" Target="http://en.wikipedia.org/wiki/Weblogs" TargetMode="External"/><Relationship Id="rId4" Type="http://schemas.openxmlformats.org/officeDocument/2006/relationships/hyperlink" Target="http://en.wikipedia.org/wiki/Wikis"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Poli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T 2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cial Media is the democratization of information, transforming people from content readers into content publishers. It is the shift from a broadcast mechanism to a many-to-many model, rooted in conversations between authors, people, and pe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cial media uses the “wisdom of crowds” to connect information in a collaborative ma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ms: </a:t>
            </a:r>
            <a:r>
              <a:rPr b="0" lang="en-US" sz="2400" spc="-1" strike="noStrike" u="sng">
                <a:solidFill>
                  <a:srgbClr val="009999"/>
                </a:solidFill>
                <a:uFillTx/>
                <a:latin typeface="Arial"/>
                <a:hlinkClick r:id="rId1"/>
              </a:rPr>
              <a:t>Internet forums</a:t>
            </a:r>
            <a:r>
              <a:rPr b="0" i="1" lang="en-US" sz="2400" spc="-1" strike="noStrike">
                <a:solidFill>
                  <a:srgbClr val="000000"/>
                </a:solidFill>
                <a:latin typeface="Arial"/>
              </a:rPr>
              <a:t>, </a:t>
            </a:r>
            <a:r>
              <a:rPr b="0" lang="en-US" sz="2400" spc="-1" strike="noStrike" u="sng">
                <a:solidFill>
                  <a:srgbClr val="009999"/>
                </a:solidFill>
                <a:uFillTx/>
                <a:latin typeface="Arial"/>
                <a:hlinkClick r:id="rId2"/>
              </a:rPr>
              <a:t>message boards</a:t>
            </a:r>
            <a:r>
              <a:rPr b="0" i="1" lang="en-US" sz="2400" spc="-1" strike="noStrike">
                <a:solidFill>
                  <a:srgbClr val="000000"/>
                </a:solidFill>
                <a:latin typeface="Arial"/>
              </a:rPr>
              <a:t>, </a:t>
            </a:r>
            <a:r>
              <a:rPr b="0" lang="en-US" sz="2400" spc="-1" strike="noStrike" u="sng">
                <a:solidFill>
                  <a:srgbClr val="009999"/>
                </a:solidFill>
                <a:uFillTx/>
                <a:latin typeface="Arial"/>
                <a:hlinkClick r:id="rId3"/>
              </a:rPr>
              <a:t>weblogs</a:t>
            </a:r>
            <a:r>
              <a:rPr b="0" i="1" lang="en-US" sz="2400" spc="-1" strike="noStrike">
                <a:solidFill>
                  <a:srgbClr val="000000"/>
                </a:solidFill>
                <a:latin typeface="Arial"/>
              </a:rPr>
              <a:t>, </a:t>
            </a:r>
            <a:r>
              <a:rPr b="0" lang="en-US" sz="2400" spc="-1" strike="noStrike" u="sng">
                <a:solidFill>
                  <a:srgbClr val="009999"/>
                </a:solidFill>
                <a:uFillTx/>
                <a:latin typeface="Arial"/>
                <a:hlinkClick r:id="rId4"/>
              </a:rPr>
              <a:t>wikis</a:t>
            </a:r>
            <a:r>
              <a:rPr b="0" i="1" lang="en-US" sz="2400" spc="-1" strike="noStrike">
                <a:solidFill>
                  <a:srgbClr val="000000"/>
                </a:solidFill>
                <a:latin typeface="Arial"/>
              </a:rPr>
              <a:t>, podcasts, pictures and vide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 of social media applications are Google (reference, social networking), Wikipedia (reference), MySpace (social networking), Facebook(social networking), Last.fm (personal music), YouTube (social networking and video sharing), Second Life (virtual reality), and Flickr (photo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Social Media</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mmun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and amplify a particular perspect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with product/candidate develop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eedbac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nt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eer relationships between candidate, party and vo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communication and increase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Campaign Trail</a:t>
            </a:r>
            <a:endParaRPr b="0" lang="en-US" sz="4400" spc="-1" strike="noStrike">
              <a:solidFill>
                <a:srgbClr val="000000"/>
              </a:solidFill>
              <a:latin typeface="Arial"/>
            </a:endParaRPr>
          </a:p>
        </p:txBody>
      </p:sp>
      <p:pic>
        <p:nvPicPr>
          <p:cNvPr id="66" name="Picture 4" descr="Obama ad screenshot"/>
          <p:cNvPicPr/>
          <p:nvPr/>
        </p:nvPicPr>
        <p:blipFill>
          <a:blip r:embed="rId1"/>
          <a:stretch/>
        </p:blipFill>
        <p:spPr>
          <a:xfrm>
            <a:off x="1873080" y="1906560"/>
            <a:ext cx="5397840" cy="391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ign Fundrais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small donors to play a meaningful role in financing political campaigns on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small-donor fundraising was prohibitively expensive, as costs of printing and postage ate up most of the money rai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ing large amounts of money from small donors at minimal cost now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transaction fees = biggest expen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first time, you have a door into the political process that isn't marked 'big mone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Should Care?</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blog is created once every 2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deos are posted to YouTube even more frequen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ans are embracing new forms of social networking – Second Life, Twittr, Flick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top down message delivery is no longer the only o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mportant Are Blog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l form of social networking to determine what stakeholders are saying about candidat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develop a network of influencers around a candidate and engage in dialogu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for story ideas, tracking down rumors and heading off potentially harmful, negative publicit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 Campaigns</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fiable data easy to obtain and analyz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e-tuning decisions can be made and implemented at any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raditional media, the cost of change in a social media campaign is comparatively very l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ness</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o measure blo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looks at offer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o clicks on th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 they l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blogs are talking about a particular candid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ll this compare to what competitors are do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If you can’t measure it, you can’t manage it”</a:t>
            </a:r>
            <a:br>
              <a:rPr sz="2400"/>
            </a:br>
            <a:endParaRPr b="0" lang="en-US" sz="2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edia techniques easy to track in data rich environments on the web and fine-tune on a daily or even hourly ba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able data: numbers are easy to come by and analyze.  Fine-tuning decisions can be made and implemented at any time.  Unlike traditional media, the cost of change in a social media campaign is comparatively very l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to measure blog effectiveness can use server log files, ClickTracks, WebTrends, Technorati, The Conversation Index</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effectivenes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comes: Impact on behavior and relationship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takes: Social capital and social networking measur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How many people are paying attention ? </a:t>
            </a: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New Politic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logic and technologies of networks giving rise to new forms of political organization and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at extent are the new forms of social networking effective in the political 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Network Mode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ltural battles are the power battles of the Information Age. They are primarily fought in and by the media…Power lies in the network of information exchange and symbolic manipulation.. It does not really matter who is in power. There are no more stable power elites.” Castells, 199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amp; </a:t>
            </a:r>
            <a:br>
              <a:rPr sz="4000"/>
            </a:br>
            <a:r>
              <a:rPr b="0" lang="en-US" sz="4000" spc="-1" strike="noStrike">
                <a:solidFill>
                  <a:srgbClr val="000000"/>
                </a:solidFill>
                <a:latin typeface="Arial"/>
              </a:rPr>
              <a:t>Democratic Politic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nvenient generalized access to massive volume of relevant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diversity of public interest inf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communication between citizens and legisl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horizontal communication among citiz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irect forms of participation: online voting, opinion polling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al Parties &amp; Networks</a:t>
            </a:r>
            <a:endParaRPr b="0" lang="en-US" sz="4400" spc="-1" strike="noStrike">
              <a:solidFill>
                <a:srgbClr val="000000"/>
              </a:solidFill>
              <a:latin typeface="Arial"/>
            </a:endParaRPr>
          </a:p>
        </p:txBody>
      </p:sp>
      <p:sp>
        <p:nvSpPr>
          <p:cNvPr id="84"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websites for publications, recruitment, fundraising,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ility of more inter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discuss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u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public opinion po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for leadership candidat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ed Governanc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select government fun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ation and democratization of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consul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s: More or Less Inclusiv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organized by electronic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information more binary (Castells) you are either in or you are out of a network; little scope for ambigu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of power is then redefined. The question becomes, who decides who is exclud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changing nature of communication and networking widen the potential numbers of an elite or close it off to society more than befo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balkaniz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yberbalkanization"— political discussions on Net that lead to fragmentation and polarization rather than consens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gives people access to a large number of news sources, but also lets them pinpoint the ones they agree with and ignore the 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xperience of the echo chamber easier to create with a computer than with many of the forms of political interaction that preceded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ublic media space being fragmented into smaller privatized sph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ed Pluralism</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zation around narrowly defined inte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d Gitlin: fragmentation of the public sphere into ‘private spheric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rivatization of public sphere rather than democrat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Cluetrain Manifesto: Internet as a conversation that empowers v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Organiz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versity of California professor Barbara Epstein: Internet "allows people who agree with each other to talk to each other and gives them the impression of being part of a much larger network than is necessarily the cas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sonal nature of communication by computer may actually undermine important human contact that always has been crucial to social and political movemen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political pa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Nation-State to Networ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communication technologies important in extending  sovereign political authority at a national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standardized message dispersed across national territ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receives information on compliance and threats (internal/exter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ing of public opinion in context of growth of liberal democratic citizenshi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ess, radio &amp; t.v. broadcasting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ization &amp; Decline of State Sovereignty</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state no longer enjoys exclusive power to prescribe and proscribe within their b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e of regional, global multi-layered system of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transnational corpo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policy making bodies ( IMF, WTO, European Union, Asia Pacific Economic Coope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osion of Nation Stat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 = many new constraints on actions of the nation stat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financial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mmun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depend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national migra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ependence and a global division of labour all lessen the power on individual nation states to ac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Lessen power on individual states to 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ing Regional/Ethnic Identitie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s in Europe and America show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 identify with their nation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cite their regional ident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amp; regionalization bring power closer to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olution in Scot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que region of Sp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bec separatists in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ew Informational Enviro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tensive and extensive than old 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information ‘captured’ in multiple spaces created by new communication techn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litics is a struggle over information &amp; perception management &amp; control in wide range of media outl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e of New Social Move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ommunication technologies give rise to transnational new social mov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al political formations outside of mainstream poli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ritorialized coalitions on local, regional, national, international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environmental, women’s m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Digital Network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p, fast publication of infor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promo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f links with sympathetic organiza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zation &amp; internal organiz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ogue &amp; deb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 forms of direction political action: </a:t>
            </a:r>
            <a:r>
              <a:rPr b="0" lang="en-US" sz="3200" spc="-1" strike="noStrike">
                <a:solidFill>
                  <a:srgbClr val="000000"/>
                </a:solidFill>
                <a:latin typeface="Arial"/>
              </a:rPr>
              <a:t>	</a:t>
            </a:r>
            <a:r>
              <a:rPr b="0" lang="en-US" sz="3200" spc="-1" strike="noStrike">
                <a:solidFill>
                  <a:srgbClr val="000000"/>
                </a:solidFill>
                <a:latin typeface="Arial"/>
              </a:rPr>
              <a:t>mass email campaigns, electronic </a:t>
            </a:r>
            <a:r>
              <a:rPr b="0" lang="en-US" sz="3200" spc="-1" strike="noStrike">
                <a:solidFill>
                  <a:srgbClr val="000000"/>
                </a:solidFill>
                <a:latin typeface="Arial"/>
              </a:rPr>
              <a:t>	</a:t>
            </a:r>
            <a:r>
              <a:rPr b="0" lang="en-US" sz="3200" spc="-1" strike="noStrike">
                <a:solidFill>
                  <a:srgbClr val="000000"/>
                </a:solidFill>
                <a:latin typeface="Arial"/>
              </a:rPr>
              <a:t>petitions, parody sit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3:27:40Z</dcterms:created>
  <dc:creator>Sheridan</dc:creator>
  <dc:description/>
  <dc:language>en-US</dc:language>
  <cp:lastModifiedBy>Sheridan</cp:lastModifiedBy>
  <dcterms:modified xsi:type="dcterms:W3CDTF">2009-03-06T00:32:41Z</dcterms:modified>
  <cp:revision>62</cp:revision>
  <dc:subject/>
  <dc:title>Network Politics</dc:title>
</cp:coreProperties>
</file>